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0D2C-9329-4748-971B-A38F9997B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583C-42D8-4617-B8A7-8B313947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9ACD-2921-4367-B62C-7280EB9D4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9D98-8CC1-4C08-A0E8-5ABEAB6CC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8904-EBD6-4FD0-9FD7-4132D4884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79A4-D148-4C50-9A56-7D405DC3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8BE7-1EA5-4033-B5AE-803175DA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BCF0-675F-4E4A-808F-BCEF8DE6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7621-C4BA-46D6-9CEE-053C2227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4FF5-8746-4737-B289-EC435EF7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F76D-1B40-44B1-9A93-B958ED39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B958-1135-41C4-9625-6231A20C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FE61-19BF-40B0-972D-513C6922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F9D6-FCEF-4062-BFA1-5CA44979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4604-2045-4B05-A10F-20F1BADA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F843-4A6C-4940-AD23-C73016F2B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29DE-DC06-4493-81AC-D8EF10181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0331-6F47-42EF-BA89-74B93A69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1ABE-AC83-45FE-9829-DAA73256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AF75-6FBD-46AA-9A01-2F97080C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8DFB-6D0B-48BE-969D-DA19AA25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E2E9-28E3-4522-9BFE-00918B57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4EDB-C784-4A90-9919-1BBCD6EA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5866-3AF7-43A1-81B7-AB8B3404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23DF-94A7-4164-BFE9-5EF8B9981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3EF9-A34E-4BFA-B556-F0D867BCB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nk-aloud survey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you using the strateg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you using them in other class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you find some strategies more usefu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erential reflection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icus probably did what would have been expected of him by coming back home after getting his edu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icus did not always agree with the court’s idea of justice and it bothered h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icus was the kind of person who put others ahead of himself (broth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icus was comfortable with his “station” in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ied thought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people remain in their home town because it is more comfortable (friends, family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eme stubbornness usually leads to misfort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small town, everybody usually knows every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ticus was feeble: he was nearly fifty.  When Jem and I asked him .  .  .”  chapter 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icus was older than Scout’s friends’ and classmates’ par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ut felt she couldn’t brag about her father, his job, or his ab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48320" y="2602080"/>
            <a:ext cx="3809880" cy="287172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erence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ut wanted badly to boast to her friends about her fa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 wished her father had a more exciting job &amp; life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 wanted Atticus to be more like other men in Maycom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48320" y="2411280"/>
            <a:ext cx="3809880" cy="32529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ied thought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ds love to brag to friends about their par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hild’s idea of adult accomplishment &amp; success differs greatly from the adult point of vie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em was thunderstruck .  .  .”  p. 128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literal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purnia explains why she speaks very differently (dialect) when in the black community than when she is in the Finch househ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85800" y="2184480"/>
            <a:ext cx="3809880" cy="3706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erence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ut and Jem were learning that Calpurnia had to exist almost as two different persons in order to best survive in two different cul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purnia was very wise in the ways of human n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ut was newly impressed with Calpurnia and had become curious about her “other”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ied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learn to adapt their ways to their surroundings and the people they deal with in their li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8320" y="2184480"/>
            <a:ext cx="3809880" cy="3706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ing/thinking on 3 level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the lines the author has wri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/think between the lines to make inferences as to what is impl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 outside the limits of the story to draw conclusions that reach far beyond to the world bey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tacognitive Strategies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 Think-alou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 Thinking on lev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To Kill a Mockingbird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ing and Thinking on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ing Academic Standard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11.A.1 - Demonstrate the ability to understand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rpr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&amp;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aly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ctional text, novel excerpts, and poetry, appropriate to grade le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sential Questions (KUeD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what ways to characters in literature reveal their true personalit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I make connections between the characters in this story an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I know in my own lif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s from other works of literatur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s strategy is to help you to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077320" cy="42670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lvl="2" marL="1074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elf-aw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your own learn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independent and confident in your own analytical ski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e that what you think in response to what you read is as important as what the author wr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more tuned in to the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vels of thought . .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al - reading the words and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ential - read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twe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words and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d - reading and think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yo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words and l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re on the levels . . 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ter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The author’s words and use of language.  (vocabulary challeng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erent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Your interpretation of what those words mean.  (self-awareness, self-confid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pli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Going beyond the story and characters and finding analogies or similarities to other reads or your own life experiences -- observations on human 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my father was admitted to the bar . . .” (literal)   p.9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ther came back to simple law practice in home town, Mayco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endents were too stupid/stubborn to take plea bargain:  han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icus didn’t really like practicing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icus helped brother through med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49480" y="1981080"/>
            <a:ext cx="2882880" cy="41148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13:40:14Z</dcterms:created>
  <dc:creator>Teacher</dc:creator>
  <dc:description/>
  <dc:language>en-US</dc:language>
  <cp:lastModifiedBy>Teacher FCASD</cp:lastModifiedBy>
  <dcterms:modified xsi:type="dcterms:W3CDTF">2011-09-15T15:32:52Z</dcterms:modified>
  <cp:revision>31</cp:revision>
  <dc:subject/>
  <dc:title>The House on Mango Street</dc:title>
</cp:coreProperties>
</file>